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E7A8-8E6B-477C-8042-B2C9356E3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51C4-F231-4692-B4B1-A4D499F8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8F2A-B489-4E34-80BC-87CF197B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B528-4343-4214-A351-3A456F92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9CC0-A467-4A52-94FA-22D0974B5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8E7D-4B62-4027-A8BB-E498054C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91A6-C7A0-4D0C-8571-756F3268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6AC6-29C7-4DCC-908F-98A41522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0A39-D9F3-4E1C-8764-7A794A20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6ABF-EE1D-4AD2-A54A-36342A20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6104-B71A-4231-A7B0-6683855D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2629-438B-487D-9AA6-5DD79C81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7F6A-5C66-4E92-97E0-BC8832F0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8F90-C552-4C5D-8E62-557B0B78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DF9E-BE90-45BA-9551-BBF2AB67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2DEF-F80B-4534-B988-8F618D5B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C2AD-5407-4BF6-8441-B51475862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B34F-902E-4352-B4D2-6C1C7BB2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04C2-772B-48E2-AA6A-FCE5C9A2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C600-DDFD-43DD-A150-77C64648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61F0-59D6-4FC5-8532-BD6E3FD0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2DD7-9BF6-4DC7-91E7-B65C0F27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3864-E14A-4D92-9735-7EF98E1D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A56B-637C-4AAF-9483-C3C90AB6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4ADE-8129-4514-B309-7B38842DC2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6A95-4C58-4544-86C4-6F120CE438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Review of the United Kingdom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47920" y="32004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 15B (Two Class Sessio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ives 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ul, David, Solom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David’s Chastisement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ab Schemed For Absalom’s Retur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4:1-2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salom Returned to Jerusalem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4:25-3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salom’s Conspiracy Against Davi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5:1-1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Fled From Jerusalem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5:13-3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iba Brings Food to Davi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6:1-1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The Rebellion of Absalom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salom Enters Jerusalem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6:15-2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unsel of Ahithophel and Hushai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7:1-2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hithophel’s Death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7:2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Moved to Mahanaim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7:24-29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salom and Israel Defeate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8:1-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David’s Return to Jerusalem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salom’s Death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8:9-3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ief of the King as It Affected His Peopl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9:1-1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rcy Shown to Shimei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9:16-2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’s Encounter with Mephibosheth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9:24-3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Favored Barzillai and Chimham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9:31-4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More Problems For David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ife between Judah and Israe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9:41-4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ebellion of Sheba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20:1-1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eba Is Slain By the People of Abe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20:14-2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rong to the Gibeonites Avenge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21:1-1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David Again Angers God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Numbers Israel and Judah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uel 24:1-9; 1 Chron. 21:1-22: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Punishes Davi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uel 24:10-2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’s Last Day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1:1-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Solomon - The Third King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onijah’s Desire to Be King Foil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1:5-3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omon Made K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1:32-5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’s Charge to Solom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2:1-9; 1 Chron. 22:2-23:1;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Chron. 28:11-2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Die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2:10-1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Solomon’s Reign Begins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onijah’s Unusual Request Resulted His Death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2:13-2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ighteous Judgment of Solom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2:26-46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iathar Removed From the Priesth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ab Was Put to Dea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imei Was Put to Dea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Solomon’s Wisdom and Prosperity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omon Married Pharaoh’s Daughte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3:1-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hovah Appears to Solom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3:3-1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omon Requested Wisd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 Wisdom and Weal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Long Life: Condit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wo Women and One Baby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3:16-2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Solomon’s Reign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rosperous Kingdom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4:1-3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ng Hiram Provided Materials for the Templ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5:1-1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uilding of the Magnificent Templ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6:1-38; 2 Chron. 2:5-1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omon Built Other Buildings and Brought Furnishings into the Templ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7:1-5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The Temple Dedicated To God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eople Assembl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8:1-2; 2 Chron. 5:2-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rk Brought into the Holy Plac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8:3-9; 2 Chron. 5:4-1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edication of the Temple by Solomon, His Prayer and Sacrific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8:10-53; 2 Chron. 5:11-6:1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Takes Possession of His Hou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9:1-9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David Anointed King over Judah—Two Rival Kingdoms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Anointed King of Judah in Hebr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uel 2:1-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Thanks to the Men of Jabesh-Gilea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uel 2:5-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ival Kingdom of Ish-bosheth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uel 2:8-1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ner Defeated, But He Killed Asahe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uel 2:12-3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Solomon’s Riches And Fame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omon Glo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9:10-2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Queen of Sheba Visited Solom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10:1-1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omon Began His Trading Ventures and Started His Nav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10:14-29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The High Point in Israel’s History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had blessed them great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ace was on all si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agnificent temple was finish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eople were serving G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ritory was at it’s largest si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omon rich beyond comprehen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were prosperous and happ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rael the most powerful nation at the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1447920"/>
            <a:ext cx="8229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Solomon’s Downfall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omon Had 700 Wives and 300 Concubin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11:1-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omon Was Turned to Idolatry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11:4-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’s Anger Against Solom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11:9-1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ersaries Arose Against Solom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11:14-2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Solomon’s Adversaries</a:t>
            </a:r>
            <a:endParaRPr b="0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Chose Jeroboam, son of an Ephrathite, to Rule Over 10 Trib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11:26-39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omon tried to kill Jeroboam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11:4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fled to Egypt until Solomon di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omon Die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11:41-4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omon’s Son, Rehoboam, to Rule Over Judah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 Kings 11:4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Events Leading to the Uniting of Judah and Israel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ner and Ishbosheth Quarre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3:1-1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ner’s Desertion to Davi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3:12-2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ab Killed Abne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3:22-39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hbosheth Is Killed and David Killed His Murdere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4:1-1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Events Leading to the Uniting of Judah and Israel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Anointed King Over All Israe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5:1-5; 1 Chron. 11:1-3;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:23-4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rusalem Captured and Made His Capita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5:6-10; 1 Chron. 11:4-9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ram, King of Tyre, Built David’s Hou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5:11-1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Defeated the Philistin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5:17-2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The Ark of God Brought to Jerusalem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rk Was Moved From Kirjath-Jearim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6:1-5; 1 Chron. 13:1-6; 15: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zzah: His Error and Death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6:6-9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rk in the House of Obed-Edom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6:10-11; 1 Chron. 13:11-1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rk Brought to Jerusalem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6:12-19; 1 Chron. 15:2-16: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chal’s Reproach and David’s Reply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6:20-2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God’s Promise and Covenant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’s Desire to Build a Templ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7:1-1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’s Covenant with Davi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7:12-1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essianic Prophecy of This Promise to Dav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in the Presence of Jehovah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7:18-29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David Extends His Kingdom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Was Victorious Over All His Enemi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8:1-18; 1 Chron. 18:1-1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’s Kindness to Mephibosheth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9:1-1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 Defeated the Ammonites and the Syria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0:1-19; 1 Chron. 19:1-19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’s Great Sin With Bathsheb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1:1-2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Repentance and Chastisement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, Through Nathan the Prophet, Rebuked Davi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2:1-12, 1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word will not depart his ho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il will come upon his househo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 wives will be laid with in publ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hild will d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vid’s Confession and Repentan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2:13; Psalm 5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David’s Chastisement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 Child Died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2:15-2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omon Born to Bathsheb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non’s Sin With Tama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3:1-19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salom’s Reveng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13:20-3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salom Fled to Geshu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 Sam. 34-39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6T01:24:31Z</dcterms:created>
  <dc:creator>Don Vines</dc:creator>
  <dc:description/>
  <dc:language>en-US</dc:language>
  <cp:lastModifiedBy>Frank D Vines</cp:lastModifiedBy>
  <dcterms:modified xsi:type="dcterms:W3CDTF">2005-08-28T13:22:36Z</dcterms:modified>
  <cp:revision>36</cp:revision>
  <dc:subject/>
  <dc:title>No Slide Title</dc:title>
</cp:coreProperties>
</file>